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B5B4-BC68-4FF6-90CA-D51EC5447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(ads) x 23 (programs) integer grid: 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screenings per ad per pr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nstraint, can’t screen commercial more than once per break – this indicates the number of breaks per program. You will see that no cell within the grid, in that column has a number greater tha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ad slots per pr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ssumes each ad is 30 seconds, so you can’t assign more (number of breaks x duration of breaks/.5) ads than you have tim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GR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number of times the ad will air during that program x the GRP for tha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number of times the ad will air during that program x the CPM for tha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PMs are not created equal = some ads want to target an audience that is more expensive to r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kimo, “New Tropical Falvors” could only air before 6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rn Home Video, “Professors Gone Wild” could only air after 8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s Ale, “Juran Loves It!” could only air after 6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/c of solver limitation, our commercials were limited to 8 (23X8=184), we originally had 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didn’t use evolutionary solver, we g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worked for up to 4 commerc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we received an: “unexpected error, insufficient memory” message after it had run for 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that this is a shortcoming. Perhaps in next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commodate commercials in increments other than 30 seconds, we would have needed 2 grids and constraints would need to have been dynamic. Perhaps in next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alty = unmet GRP x 5. We chose 5 – can play around with it and assign different priorities to different clients in order of importance. We gave them all the same pen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E1C-9E61-4F37-9789-189ED99D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9E0-BD31-47D1-A76B-FBC5B757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505-5E3F-4C18-900D-021D7432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540-5873-4D66-A121-75326ADD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7D9E-35EA-4437-B649-E4279CBD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3A8A-CD0E-4014-8A83-E530C0DB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D488-B68E-4E4D-BBA0-5772C8DF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2A1A-ACFF-444A-A434-C2ABEC15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D28F-2F2A-4FCA-A9C7-E8EC03B0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E9EF-016E-4480-AAE8-3D83A63B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3686-DE2F-4E85-B14B-6ACB2433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40F-8B5D-4AD9-A00E-275AF768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2ADA-E854-4C2D-97FF-0921B542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CC78-DEC8-4EE0-B680-229CCF50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0F2F-9F67-47EB-BD84-D4E5E2B4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427A-C11D-4E7C-9B9C-1B95CBC5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3CF0-7E29-4E60-9B66-55581670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01F-E33B-4FC5-AFD2-5C69FCF5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E5E-7A4F-4BBD-9905-6C2AA13E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348-555D-44E9-8F46-D7B14951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757-1DED-45E2-A4B4-21F423E8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AE4-AD57-4DAD-B10E-4C37AFA1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B17-DBE4-44A0-8EEE-50F89D14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92F-CC39-4A7D-9405-DADE4DB9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7E85-F0A1-47E3-8C4B-09E247B209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EECF-A7F5-428A-A853-A62AF4E79B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TV Spot Project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8960" y="327024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Assigning Commercials to TV Spo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82920" y="5130720"/>
            <a:ext cx="189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1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fer 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ri D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aki Nagasa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ejandro Sa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r model: 8 (commercials) x 23 (programs) (integer) gr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5105520"/>
            <a:ext cx="7543800" cy="160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7631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Overview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C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s can’t exceed available s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s can’t run more than once per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me commercials can’t air at certain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nalty for unmet G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36252" t="34376" r="36252" b="35158"/>
          <a:stretch/>
        </p:blipFill>
        <p:spPr>
          <a:xfrm>
            <a:off x="5410080" y="40384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ents reach target GR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lowest possible CPM (total of $2,560 for all eight cli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ame receives $640 (25% of the CP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3681360"/>
            <a:ext cx="84582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sults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3678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halleng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model was too much for Solver, Excel couldn’t handle 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r can’t accommodate &gt; 200 decision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worked with Evolutionary S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ed on minimizing CPM, not maximizing Comprame’s 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works with commercials in 30 second increment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&amp;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ject 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ame is an advertising agency dealing exclusively with Channel 2 in Managua, Nicaragu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very week Comprame receives orders from several clients to allocate commercials among spots available on Channel 2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ame receives 25% of the total client ad dollars spent as reven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ject Overview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lient has the following criter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ach target demographic aud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oss Ratings Poi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GRP): sum total ratings points that the client wants to achieve, within their target demographic, for that we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a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= (Demo Universe/100) X Demo R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 cheaply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st per Thous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PM) = (Cost per Spot/Demo Rating) X 1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ame Client and Spot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409840"/>
            <a:ext cx="8534520" cy="277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409840" y="5562720"/>
            <a:ext cx="1933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fessors Gone WILD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ncun 2003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75479" b="0"/>
          <a:stretch/>
        </p:blipFill>
        <p:spPr>
          <a:xfrm>
            <a:off x="380880" y="5597640"/>
            <a:ext cx="1752840" cy="65088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6858000" y="5105520"/>
            <a:ext cx="1828440" cy="1600200"/>
            <a:chOff x="6858000" y="5105520"/>
            <a:chExt cx="1828440" cy="16002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rcRect l="0" t="16673" r="0" b="0"/>
            <a:stretch/>
          </p:blipFill>
          <p:spPr>
            <a:xfrm>
              <a:off x="6858000" y="5181840"/>
              <a:ext cx="11703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6858000" y="5943960"/>
              <a:ext cx="117036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808760" y="5105520"/>
              <a:ext cx="877680" cy="304920"/>
            </a:xfrm>
            <a:prstGeom prst="wedgeRectCallout">
              <a:avLst>
                <a:gd name="adj1" fmla="val -66319"/>
                <a:gd name="adj2" fmla="val 165106"/>
              </a:avLst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ke it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5"/>
          <a:srcRect l="22921" t="11610" r="37702" b="18839"/>
          <a:stretch/>
        </p:blipFill>
        <p:spPr>
          <a:xfrm>
            <a:off x="4952880" y="5715000"/>
            <a:ext cx="121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nel 2’s Commercial Sp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9906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nnel 2’s Ratings Inform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130480"/>
            <a:ext cx="9906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nagerial Problem Defini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locate commercials in time slots so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ommercial reaches target GRP of specific demographic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tal CPM for that target demographic is minimiz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onsidered the fol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slot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ngth of slots and commerc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f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Varia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en to air commercials and reach target audience (GRP) with lowest cost (CP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C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s can’t exceed available s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me commercials can’t air at certain ti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kimo, “New Tropical Flavors” only before 6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ern Home Video, “Professors Gone Wild” only after 8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ss Ale, “Juran Loves It!” only after 6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 can’t run more than once per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ent needs to reach target G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16:42:21Z</dcterms:created>
  <dc:creator>Lori Dorr</dc:creator>
  <dc:description/>
  <dc:language>en-US</dc:language>
  <cp:lastModifiedBy>Lori Dorr</cp:lastModifiedBy>
  <dcterms:modified xsi:type="dcterms:W3CDTF">2003-04-30T20:28:31Z</dcterms:modified>
  <cp:revision>39</cp:revision>
  <dc:subject/>
  <dc:title>TV Spot Project </dc:title>
</cp:coreProperties>
</file>